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BC5-183F-4400-A1D5-6CF72AA6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0720" y="325152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3AA-5379-4FB9-B844-3CDDC8B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29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FE2-A273-4EC4-9690-68FEE448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320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604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072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320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604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B65-5D19-4D9B-889D-39DA6610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D77-79A5-450B-A0B2-69A6BF6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E74-A490-4603-B957-50A3197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67B-CD9A-473A-97FA-67BD9D9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37F-C686-42C4-B400-EACD462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2B0-B3E3-4407-8095-E8C3F42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FCF-2FCA-4086-BF39-43E7D5A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29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812-D1F5-4267-960D-AF597D79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2F7-5A67-4BBF-9DC2-5C0BFA8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rcRect l="4002" t="433" r="1406" b="1154"/>
          <a:stretch/>
        </p:blipFill>
        <p:spPr>
          <a:xfrm>
            <a:off x="-3240" y="-9828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A66-2D18-4B95-AB68-916FA1CB57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1960" y="632448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292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1B2F-A6B1-4B24-AF18-D113E74A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8818" t="23779" r="0" b="22768"/>
          <a:stretch/>
        </p:blipFill>
        <p:spPr>
          <a:xfrm>
            <a:off x="7569360" y="-76320"/>
            <a:ext cx="15746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391520" cy="144756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of Winston Cones with Prototype Electronic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5640" y="2133720"/>
            <a:ext cx="4724280" cy="1218960"/>
          </a:xfrm>
          <a:prstGeom prst="rect">
            <a:avLst/>
          </a:prstGeom>
          <a:solidFill>
            <a:srgbClr val="fcc79d">
              <a:alpha val="47000"/>
            </a:srgbClr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itive / Negative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7920" y="3733920"/>
            <a:ext cx="3361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f Roe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sa Sabrina Stark Schneeb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-Pierre Stuc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Setu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480" y="1981080"/>
            <a:ext cx="6919200" cy="3429000"/>
            <a:chOff x="1752480" y="1981080"/>
            <a:chExt cx="6919200" cy="3429000"/>
          </a:xfrm>
        </p:grpSpPr>
        <p:sp>
          <p:nvSpPr>
            <p:cNvPr id="48" name=""/>
            <p:cNvSpPr/>
            <p:nvPr/>
          </p:nvSpPr>
          <p:spPr>
            <a:xfrm>
              <a:off x="1752480" y="5257800"/>
              <a:ext cx="50292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34880" y="3933720"/>
              <a:ext cx="34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ed circuit board PAG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981080"/>
              <a:ext cx="6385680" cy="3276720"/>
              <a:chOff x="2286000" y="1981080"/>
              <a:chExt cx="6385680" cy="327672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3657600"/>
                <a:ext cx="1447920" cy="137160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18" y="11750"/>
                    </a:moveTo>
                    <a:arcTo wR="-9828" hR="-9828" stAng="10467179" swAng="-11320459"/>
                    <a:lnTo>
                      <a:pt x="331" y="13453"/>
                    </a:lnTo>
                    <a:arcTo wR="10800" hR="10800" stAng="9946720" swAng="11320459"/>
                    <a:lnTo>
                      <a:pt x="24237" y="9495"/>
                    </a:lnTo>
                    <a:lnTo>
                      <a:pt x="21374" y="12974"/>
                    </a:lnTo>
                    <a:lnTo>
                      <a:pt x="17895" y="101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2514240" y="4419360"/>
                <a:ext cx="990720" cy="685800"/>
              </a:xfrm>
              <a:prstGeom prst="flowChartDelay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95480" y="1981080"/>
                <a:ext cx="228600" cy="2743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71800" y="4572000"/>
                <a:ext cx="114480" cy="112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95480" y="19810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798640" y="4632480"/>
                <a:ext cx="457200" cy="62532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137520 h 625320"/>
                  <a:gd name="textAreaBottom" fmla="*/ 487800 h 62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71800" y="1981080"/>
                <a:ext cx="76320" cy="2286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93240" y="2971800"/>
                <a:ext cx="497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inston cones: plexiglass or reflecting foi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" name=""/>
              <p:cNvCxnSpPr>
                <a:stCxn id="56" idx="0"/>
                <a:endCxn id="58" idx="1"/>
              </p:cNvCxnSpPr>
              <p:nvPr/>
            </p:nvCxnSpPr>
            <p:spPr>
              <a:xfrm flipV="1">
                <a:off x="3198960" y="3169800"/>
                <a:ext cx="498960" cy="177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0" name=""/>
              <p:cNvSpPr/>
              <p:nvPr/>
            </p:nvSpPr>
            <p:spPr>
              <a:xfrm>
                <a:off x="4402800" y="2076480"/>
                <a:ext cx="385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ED: pulse of 20 ns, 1kHz, 4m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"/>
              <p:cNvCxnSpPr>
                <a:stCxn id="55" idx="3"/>
                <a:endCxn id="60" idx="1"/>
              </p:cNvCxnSpPr>
              <p:nvPr/>
            </p:nvCxnSpPr>
            <p:spPr>
              <a:xfrm>
                <a:off x="3123720" y="2095560"/>
                <a:ext cx="1280520" cy="16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/>
              <p:nvPr/>
            </p:nvCxnSpPr>
            <p:spPr>
              <a:xfrm flipV="1">
                <a:off x="4419360" y="4114080"/>
                <a:ext cx="213480" cy="1143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A9D-8717-41E6-92BD-2C5F29CB57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36C8-D4E1-4443-A441-9D1ED93F8C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sitive / Nega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6248520" cy="990360"/>
          </a:xfrm>
          <a:prstGeom prst="rect">
            <a:avLst/>
          </a:prstGeom>
          <a:solidFill>
            <a:srgbClr val="fcc79d">
              <a:alpha val="41000"/>
            </a:srgbClr>
          </a:solidFill>
          <a:ln w="9360">
            <a:solidFill>
              <a:srgbClr val="333399">
                <a:alpha val="99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ones: Plexi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ones: 98% reflective 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2840" y="56642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9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15240" y="4541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6240" y="27432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de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0280" y="3124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p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16640" y="3657600"/>
            <a:ext cx="1280880" cy="926280"/>
          </a:xfrm>
          <a:prstGeom prst="rect">
            <a:avLst/>
          </a:prstGeom>
          <a:solidFill>
            <a:srgbClr val="fde8c4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1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94320" y="4876920"/>
            <a:ext cx="1280880" cy="926280"/>
          </a:xfrm>
          <a:prstGeom prst="rect">
            <a:avLst/>
          </a:prstGeom>
          <a:solidFill>
            <a:srgbClr val="fde8c4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1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7720" y="44956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Incoming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673440"/>
            <a:ext cx="2919240" cy="286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amount of the incoming light hits the APD directly, unt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ached this amount decreases, at angles bigger th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incoming light will be reflected at least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18000" y="3505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3400" y="3638520"/>
            <a:ext cx="1452600" cy="2533680"/>
          </a:xfrm>
          <a:custGeom>
            <a:avLst/>
            <a:gdLst>
              <a:gd name="textAreaLeft" fmla="*/ 319320 w 1452600"/>
              <a:gd name="textAreaRight" fmla="*/ 1133280 w 1452600"/>
              <a:gd name="textAreaTop" fmla="*/ 556920 h 2533680"/>
              <a:gd name="textAreaBottom" fmla="*/ 197676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68320" y="3708360"/>
            <a:ext cx="11160" cy="2347920"/>
            <a:chOff x="1768320" y="3708360"/>
            <a:chExt cx="11160" cy="2347920"/>
          </a:xfrm>
        </p:grpSpPr>
        <p:sp>
          <p:nvSpPr>
            <p:cNvPr id="76" name=""/>
            <p:cNvSpPr/>
            <p:nvPr/>
          </p:nvSpPr>
          <p:spPr>
            <a:xfrm flipV="1">
              <a:off x="1768320" y="3708360"/>
              <a:ext cx="111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8320" y="50212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>
            <a:off x="2398320" y="3638520"/>
            <a:ext cx="1057320" cy="2533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7200" y="4502160"/>
            <a:ext cx="4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398680" y="3638520"/>
            <a:ext cx="0" cy="25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38440" y="4559400"/>
            <a:ext cx="1320480" cy="23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0960" y="4876920"/>
            <a:ext cx="4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83040" y="3638160"/>
            <a:ext cx="7596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6880" y="5029200"/>
            <a:ext cx="4564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743200"/>
            <a:ext cx="44067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gle under which reflective behavior cha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84600" y="3809880"/>
            <a:ext cx="685800" cy="685800"/>
            <a:chOff x="3684600" y="3809880"/>
            <a:chExt cx="685800" cy="685800"/>
          </a:xfrm>
        </p:grpSpPr>
        <p:sp>
          <p:nvSpPr>
            <p:cNvPr id="87" name=""/>
            <p:cNvSpPr/>
            <p:nvPr/>
          </p:nvSpPr>
          <p:spPr>
            <a:xfrm>
              <a:off x="3684600" y="38098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30760" y="39625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0920" y="40384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703680" y="5048280"/>
            <a:ext cx="685800" cy="685800"/>
            <a:chOff x="3703680" y="5048280"/>
            <a:chExt cx="685800" cy="685800"/>
          </a:xfrm>
        </p:grpSpPr>
        <p:sp>
          <p:nvSpPr>
            <p:cNvPr id="91" name=""/>
            <p:cNvSpPr/>
            <p:nvPr/>
          </p:nvSpPr>
          <p:spPr>
            <a:xfrm>
              <a:off x="3703680" y="504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65680" y="520056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42800">
              <a:off x="3760920" y="523836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363800">
            <a:off x="2514240" y="3200040"/>
            <a:ext cx="533520" cy="2286000"/>
          </a:xfrm>
          <a:prstGeom prst="downArrow">
            <a:avLst>
              <a:gd name="adj1" fmla="val 50000"/>
              <a:gd name="adj2" fmla="val 107119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13600">
            <a:off x="2819520" y="3123720"/>
            <a:ext cx="533160" cy="2286000"/>
          </a:xfrm>
          <a:prstGeom prst="downArrow">
            <a:avLst>
              <a:gd name="adj1" fmla="val 50000"/>
              <a:gd name="adj2" fmla="val 107191"/>
            </a:avLst>
          </a:prstGeom>
          <a:solidFill>
            <a:srgbClr val="0099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9331400">
            <a:off x="2437920" y="540972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0099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F43-E394-41D8-8740-BEE9BABACC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16FA9-EF03-4C2C-9C75-B19E3BA026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gular Acceptance of Posi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57240" y="1600200"/>
            <a:ext cx="685800" cy="685800"/>
            <a:chOff x="1857240" y="1600200"/>
            <a:chExt cx="685800" cy="685800"/>
          </a:xfrm>
        </p:grpSpPr>
        <p:sp>
          <p:nvSpPr>
            <p:cNvPr id="99" name=""/>
            <p:cNvSpPr/>
            <p:nvPr/>
          </p:nvSpPr>
          <p:spPr>
            <a:xfrm>
              <a:off x="1857240" y="160020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3560" y="182880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00800" y="1562040"/>
            <a:ext cx="685800" cy="685800"/>
            <a:chOff x="6400800" y="1562040"/>
            <a:chExt cx="685800" cy="685800"/>
          </a:xfrm>
        </p:grpSpPr>
        <p:sp>
          <p:nvSpPr>
            <p:cNvPr id="102" name=""/>
            <p:cNvSpPr/>
            <p:nvPr/>
          </p:nvSpPr>
          <p:spPr>
            <a:xfrm>
              <a:off x="6400800" y="156204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042800">
              <a:off x="6458040" y="17524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2440" y="5807160"/>
            <a:ext cx="8907480" cy="926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error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°; Y-error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5% for signals &gt; 5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0% for signals &lt; 5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733920"/>
            <a:ext cx="304560" cy="53316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9999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520" y="2695680"/>
          <a:ext cx="4627800" cy="29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695680"/>
                    <a:ext cx="4627800" cy="296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76920" y="2743200"/>
          <a:ext cx="4146480" cy="288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743200"/>
                    <a:ext cx="4146480" cy="288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F21-C17D-4B12-901C-0DDC357104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376D6-250B-480E-AA1E-30359751C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gular Acceptance of Nega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3238560"/>
            <a:ext cx="4114800" cy="2738520"/>
            <a:chOff x="304920" y="3238560"/>
            <a:chExt cx="4114800" cy="2738520"/>
          </a:xfrm>
        </p:grpSpPr>
        <p:graphicFrame>
          <p:nvGraphicFramePr>
            <p:cNvPr id="112" name=""/>
            <p:cNvGraphicFramePr/>
            <p:nvPr/>
          </p:nvGraphicFramePr>
          <p:xfrm>
            <a:off x="304920" y="3238560"/>
            <a:ext cx="4114800" cy="2738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238560"/>
                      <a:ext cx="4114800" cy="2738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2479320" y="5568840"/>
              <a:ext cx="19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º inclined to c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76920" y="3174840"/>
            <a:ext cx="4114800" cy="2768760"/>
            <a:chOff x="4876920" y="3174840"/>
            <a:chExt cx="4114800" cy="2768760"/>
          </a:xfrm>
        </p:grpSpPr>
        <p:graphicFrame>
          <p:nvGraphicFramePr>
            <p:cNvPr id="116" name=""/>
            <p:cNvGraphicFramePr/>
            <p:nvPr/>
          </p:nvGraphicFramePr>
          <p:xfrm>
            <a:off x="4876920" y="3174840"/>
            <a:ext cx="4114800" cy="2768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174840"/>
                      <a:ext cx="4114800" cy="2768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6938280" y="5581440"/>
              <a:ext cx="20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º inclined to c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534000" y="2400480"/>
            <a:ext cx="685800" cy="685800"/>
            <a:chOff x="6534000" y="2400480"/>
            <a:chExt cx="685800" cy="685800"/>
          </a:xfrm>
        </p:grpSpPr>
        <p:sp>
          <p:nvSpPr>
            <p:cNvPr id="120" name=""/>
            <p:cNvSpPr/>
            <p:nvPr/>
          </p:nvSpPr>
          <p:spPr>
            <a:xfrm>
              <a:off x="6534000" y="24004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042800">
              <a:off x="6591240" y="25909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009880" y="2438280"/>
            <a:ext cx="685800" cy="685800"/>
            <a:chOff x="2009880" y="2438280"/>
            <a:chExt cx="685800" cy="685800"/>
          </a:xfrm>
        </p:grpSpPr>
        <p:sp>
          <p:nvSpPr>
            <p:cNvPr id="123" name=""/>
            <p:cNvSpPr/>
            <p:nvPr/>
          </p:nvSpPr>
          <p:spPr>
            <a:xfrm>
              <a:off x="2009880" y="243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86200" y="2666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AFA-8E5E-40A5-ACBE-1E26B91939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4485A-EE6F-49CE-8DB1-5C70626927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arison pos./neg.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240" y="2762280"/>
          <a:ext cx="4343400" cy="23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240" y="2762280"/>
                    <a:ext cx="4343400" cy="230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44360" y="2762280"/>
          <a:ext cx="4268880" cy="2270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2762280"/>
                    <a:ext cx="4268880" cy="2270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6415200" y="1905120"/>
            <a:ext cx="685800" cy="685800"/>
            <a:chOff x="6415200" y="1905120"/>
            <a:chExt cx="685800" cy="685800"/>
          </a:xfrm>
        </p:grpSpPr>
        <p:sp>
          <p:nvSpPr>
            <p:cNvPr id="131" name=""/>
            <p:cNvSpPr/>
            <p:nvPr/>
          </p:nvSpPr>
          <p:spPr>
            <a:xfrm>
              <a:off x="6415200" y="190512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042800">
              <a:off x="6472440" y="209556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90720" y="1943280"/>
            <a:ext cx="685800" cy="685800"/>
            <a:chOff x="1890720" y="1943280"/>
            <a:chExt cx="685800" cy="685800"/>
          </a:xfrm>
        </p:grpSpPr>
        <p:sp>
          <p:nvSpPr>
            <p:cNvPr id="134" name=""/>
            <p:cNvSpPr/>
            <p:nvPr/>
          </p:nvSpPr>
          <p:spPr>
            <a:xfrm>
              <a:off x="1890720" y="1943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7040" y="2171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82480" y="5257800"/>
            <a:ext cx="7723440" cy="12830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gative cones are more sensitive at small angles whereas the positive cones show a higher performance at big angles. This behavior is independent from the angle of incoming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BC3-0522-40B6-9A04-A61CE84AA4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285AC-C0B3-41C5-8BC5-07B35EB193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629400" cy="3352680"/>
          </a:xfrm>
          <a:prstGeom prst="rect">
            <a:avLst/>
          </a:prstGeom>
          <a:solidFill>
            <a:srgbClr val="fde8c4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dex of total reflection of plexi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NSB -&gt; DC 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to noise versu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background from muons in positive c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new light pulse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F7E-D202-4DA7-8CC5-6D12E855E6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6187F-7BF0-43D7-98B7-9887089721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firmation Measurement: Angular Acceptance of Positive Con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LED more distant, without apertur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57240" y="2438280"/>
            <a:ext cx="685800" cy="685800"/>
            <a:chOff x="1857240" y="2438280"/>
            <a:chExt cx="685800" cy="685800"/>
          </a:xfrm>
        </p:grpSpPr>
        <p:sp>
          <p:nvSpPr>
            <p:cNvPr id="141" name=""/>
            <p:cNvSpPr/>
            <p:nvPr/>
          </p:nvSpPr>
          <p:spPr>
            <a:xfrm>
              <a:off x="1857240" y="243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33560" y="2666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00800" y="2400480"/>
            <a:ext cx="685800" cy="685800"/>
            <a:chOff x="6400800" y="2400480"/>
            <a:chExt cx="685800" cy="685800"/>
          </a:xfrm>
        </p:grpSpPr>
        <p:sp>
          <p:nvSpPr>
            <p:cNvPr id="144" name=""/>
            <p:cNvSpPr/>
            <p:nvPr/>
          </p:nvSpPr>
          <p:spPr>
            <a:xfrm>
              <a:off x="6400800" y="24004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042800">
              <a:off x="6458040" y="25909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47920" y="3733920"/>
            <a:ext cx="304560" cy="53316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9999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3352680"/>
          <a:ext cx="41911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4191120" cy="274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495680" y="3330720"/>
          <a:ext cx="4462560" cy="2732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330720"/>
                    <a:ext cx="4462560" cy="273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618-0FCC-47DA-A64A-E98327FC8D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C5070-6221-431F-AC1E-4ADFAA5C24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4:12Z</dcterms:created>
  <dc:creator>Sabrina  Stark</dc:creator>
  <dc:description/>
  <dc:language>en-US</dc:language>
  <cp:lastModifiedBy>Thomas Krähenbühl</cp:lastModifiedBy>
  <dcterms:modified xsi:type="dcterms:W3CDTF">2009-02-24T12:55:22Z</dcterms:modified>
  <cp:revision>54</cp:revision>
  <dc:subject/>
  <dc:title>Test of GAPDs, Electronics and Winston Cones</dc:title>
</cp:coreProperties>
</file>